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9018-4DE0-4DCF-9E5E-4E19C9B9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F857-1E09-401A-BD81-0D367720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665B-5FA0-4BA8-9C55-A2BB8642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2D3D-C6E9-40CC-87ED-F5DBDED4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3DBE-0476-42FB-9FDA-00C8C1D0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FC2E-23F9-4182-BFA3-CA26F2E9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EFD-1853-44BD-8318-ABAB4A90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F4B-723C-4FDF-9A17-B94320B7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F6AC-8F88-4964-8B03-D649AB5E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5C3-8387-477A-8031-37020373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F67F-E71B-4254-B920-4D9411D3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91DF-EA8F-46EC-801D-25408932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F55D-2230-46EB-8739-68BCF091D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Teamwork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y: Jesse Haf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ively Participate in a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an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tor in a grou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need to act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pate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ion, no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your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other group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. Just don’t let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everyth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304520" y="1299600"/>
            <a:ext cx="4726080" cy="5127120"/>
            <a:chOff x="4304520" y="1299600"/>
            <a:chExt cx="4726080" cy="512712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 rot="566400">
              <a:off x="4648320" y="159984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 txBox="1"/>
            <p:nvPr/>
          </p:nvSpPr>
          <p:spPr>
            <a:xfrm rot="566400">
              <a:off x="4648320" y="159984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Know the Group Rules and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n life, there are al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ules and values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eed to learn to fol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same thing g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ith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sten to Other Group Me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ET! You’ll ne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 to wait your 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share when  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priate.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s are importa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ress Ideas to Other Group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57200" y="1600200"/>
            <a:ext cx="4038480" cy="4525920"/>
            <a:chOff x="457200" y="1600200"/>
            <a:chExt cx="4038480" cy="452592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 txBox="1"/>
            <p:nvPr/>
          </p:nvSpPr>
          <p:spPr>
            <a:xfrm>
              <a:off x="45720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aren’t going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 your idea, 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se will? It’s your ide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why not share it? I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ant othe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 to use y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, you’ve got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ress yoursel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Just don’t scream i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 Sensitive to the Group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mber’s Ideas and Vi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not agre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or her idea, but don’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gh at them!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e. But not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n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joy their compan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you should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ong with every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648320" y="1600200"/>
            <a:ext cx="4038480" cy="4525920"/>
            <a:chOff x="4648320" y="1600200"/>
            <a:chExt cx="4038480" cy="452592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464832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 txBox="1"/>
            <p:nvPr/>
          </p:nvSpPr>
          <p:spPr>
            <a:xfrm>
              <a:off x="464832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Be Willing to Compromise if Necessary to Accomplish the Go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o your idea’s not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best. Are you willing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ake a compromis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order to accomplish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go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8:59:11Z</dcterms:created>
  <dc:creator>Administrator</dc:creator>
  <dc:description/>
  <dc:language>en-US</dc:language>
  <cp:lastModifiedBy>Administrator</cp:lastModifiedBy>
  <dcterms:modified xsi:type="dcterms:W3CDTF">2009-11-24T19:17:51Z</dcterms:modified>
  <cp:revision>4</cp:revision>
  <dc:subject/>
  <dc:title>Teamwork Skills</dc:title>
</cp:coreProperties>
</file>