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2FD7A-ED5B-4B4F-9AB6-439076D47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CC938-50FD-4F9F-A579-355C58FEF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F495F-9A38-4DF7-A5AB-B3003296D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66F13-11FF-499C-8A17-6FAC51EC6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90660-F8CB-4C87-BF58-EA28EA9D1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016BF-E976-4B47-AE28-9A28CE84A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F37F5-DE59-4A1E-B010-7E2366A0C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49134-3DC5-4C7B-A8DE-D60CB83E6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599B0-F3EA-44B3-8D12-08FC94107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12E5A-7896-4819-BDD1-CADEB8707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2E605-5D64-44B9-ADF5-E8D4DC235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23B53-9816-44E1-ADC1-35919A025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F4249-EC04-4875-8122-3A770B8756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6600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Arial"/>
              </a:rPr>
              <a:t>Teamwork Ski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By: Jesse Haf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" dur="2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ctively Participate in a Gro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be an ac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ticipator in a group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ou will need to actu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ticipate in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cussion, no mat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your differ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th other group mem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e. Just don’t let the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 everything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4304520" y="1299600"/>
            <a:ext cx="4726080" cy="5127120"/>
            <a:chOff x="4304520" y="1299600"/>
            <a:chExt cx="4726080" cy="5127120"/>
          </a:xfrm>
        </p:grpSpPr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 rot="566400">
              <a:off x="4648320" y="1599840"/>
              <a:ext cx="4038480" cy="452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"/>
            <p:cNvSpPr txBox="1"/>
            <p:nvPr/>
          </p:nvSpPr>
          <p:spPr>
            <a:xfrm rot="566400">
              <a:off x="4648320" y="1599840"/>
              <a:ext cx="4038480" cy="4525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6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 advTm="5000">
    <p:random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" dur="5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" dur="500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" dur="500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Know the Group Rules and Valu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In life, there are alw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rules and values y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Need to learn to follo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The same thing go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With job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random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isten to Other Group Memb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QUIET! You’ll need 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arn to wait your tu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share when  it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ppropriate. Liste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kills are importan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random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5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5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5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5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5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5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5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5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50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50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1746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press Ideas to Other Group Me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457200" y="1600200"/>
            <a:ext cx="4038480" cy="4525920"/>
            <a:chOff x="457200" y="1600200"/>
            <a:chExt cx="4038480" cy="4525920"/>
          </a:xfrm>
        </p:grpSpPr>
        <p:pic>
          <p:nvPicPr>
            <p:cNvPr id="56" name="" descr=""/>
            <p:cNvPicPr/>
            <p:nvPr/>
          </p:nvPicPr>
          <p:blipFill>
            <a:blip r:embed="rId1"/>
            <a:stretch/>
          </p:blipFill>
          <p:spPr>
            <a:xfrm>
              <a:off x="457200" y="1600200"/>
              <a:ext cx="4038480" cy="452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 txBox="1"/>
            <p:nvPr/>
          </p:nvSpPr>
          <p:spPr>
            <a:xfrm>
              <a:off x="457200" y="1600200"/>
              <a:ext cx="4038480" cy="4525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90000"/>
                </a:lnSpc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you aren’t going 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are your idea, wh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lse will? It’s your idea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 why not share it? If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 want other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mbers to use yo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dea, you’ve got 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press yourself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Just don’t scream it!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random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500"/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e Sensitive to the Group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ember’s Ideas and View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may not agree wi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s or her idea, but don’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gh at them! Yo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to 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standing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sitive. But not t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sitiv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may n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joy their company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you should ge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ong with everyon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4648320" y="1600200"/>
            <a:ext cx="4038480" cy="4525920"/>
            <a:chOff x="4648320" y="1600200"/>
            <a:chExt cx="4038480" cy="4525920"/>
          </a:xfrm>
        </p:grpSpPr>
        <p:pic>
          <p:nvPicPr>
            <p:cNvPr id="62" name="" descr=""/>
            <p:cNvPicPr/>
            <p:nvPr/>
          </p:nvPicPr>
          <p:blipFill>
            <a:blip r:embed="rId2"/>
            <a:stretch/>
          </p:blipFill>
          <p:spPr>
            <a:xfrm>
              <a:off x="4648320" y="1600200"/>
              <a:ext cx="4038480" cy="452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"/>
            <p:cNvSpPr txBox="1"/>
            <p:nvPr/>
          </p:nvSpPr>
          <p:spPr>
            <a:xfrm>
              <a:off x="4648320" y="1600200"/>
              <a:ext cx="4038480" cy="4525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 advTm="5000">
    <p:random/>
  </p:transition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0" fill="hold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0" fill="hold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0" fill="hold"/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0" fill="hold"/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0" fill="hold"/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0" fill="hold"/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0" fill="hold"/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0" fill="hold"/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be0e3"/>
                </a:solidFill>
                <a:latin typeface="Arial"/>
              </a:rPr>
              <a:t>Be Willing to Compromise if Necessary to Accomplish the Go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So your idea’s not th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best. Are you willing 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make a compromise 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order to accomplish th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goa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random/>
  </p:transition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9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4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4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5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5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5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5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6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6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6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6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3T18:59:11Z</dcterms:created>
  <dc:creator>Administrator</dc:creator>
  <dc:description/>
  <dc:language>en-US</dc:language>
  <cp:lastModifiedBy>Administrator</cp:lastModifiedBy>
  <dcterms:modified xsi:type="dcterms:W3CDTF">2009-11-24T19:17:51Z</dcterms:modified>
  <cp:revision>4</cp:revision>
  <dc:subject/>
  <dc:title>Teamwork Skills</dc:title>
</cp:coreProperties>
</file>