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17FF-F99F-45D1-921F-4ED708CD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2742-28D1-4579-AF1C-70A34113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FC9B-6401-4FF9-9231-0C3730F0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8690-6140-4D4D-A547-D153BB1F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600C-D6A1-485D-86A9-FF66A40F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314E-F722-4063-B4AF-31346656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068-EA88-4B86-93DD-E22ED0D0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C8BE-D531-45C5-BA8E-ACCE8589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306B-30A5-452F-A2BC-BAA50C49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B24C-A719-4D12-86DE-946E3FC9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E138-3228-4BF3-87E7-632AEFFC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5051-FFB3-4F1D-8985-5E2A8DCB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D362-3800-4E6C-85B0-2AB29E7C9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Teamwork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y: Jesse Haf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ively Participate in a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e an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tor in a grou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need to act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te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ion, no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your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other group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. Just don’t let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everyth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304520" y="1299600"/>
            <a:ext cx="4726080" cy="5127120"/>
            <a:chOff x="4304520" y="1299600"/>
            <a:chExt cx="4726080" cy="512712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 rot="566400">
              <a:off x="4648320" y="159984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 txBox="1"/>
            <p:nvPr/>
          </p:nvSpPr>
          <p:spPr>
            <a:xfrm rot="566400">
              <a:off x="4648320" y="159984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Know the Group Rules and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n life, there are al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ules and values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eed to learn to fol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same thing g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ith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sten to Other Group Me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ET! You’ll ne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 to wait your 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share when  i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priate.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s are importa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5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5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5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5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5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ress Ideas to Other Group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57200" y="1600200"/>
            <a:ext cx="4038480" cy="4525920"/>
            <a:chOff x="457200" y="1600200"/>
            <a:chExt cx="4038480" cy="452592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 txBox="1"/>
            <p:nvPr/>
          </p:nvSpPr>
          <p:spPr>
            <a:xfrm>
              <a:off x="457200" y="160020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aren’t going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 your idea, 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se will? It’s your ide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why not share it? I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ant othe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 to use y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, you’ve got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ress yourself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Just don’t scream it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 Sensitive to the Group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mber’s Ideas and Vie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not agre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or her idea, but don’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gh at them!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e. But not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n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joy their compan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you should 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ong with every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648320" y="1600200"/>
            <a:ext cx="4038480" cy="4525920"/>
            <a:chOff x="4648320" y="1600200"/>
            <a:chExt cx="4038480" cy="4525920"/>
          </a:xfrm>
        </p:grpSpPr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4648320" y="160020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 txBox="1"/>
            <p:nvPr/>
          </p:nvSpPr>
          <p:spPr>
            <a:xfrm>
              <a:off x="4648320" y="160020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Be Willing to Compromise if Necessary to Accomplish the Go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o your idea’s not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best. Are you willing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ake a compromis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order to accomplish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go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8:59:11Z</dcterms:created>
  <dc:creator>Administrator</dc:creator>
  <dc:description/>
  <dc:language>en-US</dc:language>
  <cp:lastModifiedBy>Administrator</cp:lastModifiedBy>
  <dcterms:modified xsi:type="dcterms:W3CDTF">2009-11-24T19:17:51Z</dcterms:modified>
  <cp:revision>4</cp:revision>
  <dc:subject/>
  <dc:title>Teamwork Skills</dc:title>
</cp:coreProperties>
</file>