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F27-7568-4995-A9EF-A1F288AD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2E4-A6FD-481A-95A1-4779757B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E82-F5AD-4AD5-BFF2-8CA6BAEC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1CF-A4E0-4AFE-ADAB-36111997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192-505C-47A6-BDF4-B4A9C686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96B-A86D-4EAC-A92E-4215629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ED1-E3CD-4C10-B38F-2500E08A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AC8-B149-4AFA-BDAF-9EC1A286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78A-0CA5-4352-8C43-DE4F16A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816-48D1-484C-92F8-A86B69B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308-C542-4002-9D48-826B718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D0E-793E-4994-BD7C-435BEFA2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2131-2E3F-4D97-AAD1-267E03EC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eamwork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y: Jesse Haf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ely Participate in a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n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or in a gro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eed to act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, no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your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ther grou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. Just don’t let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ever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304520" y="1299600"/>
            <a:ext cx="4726080" cy="5127120"/>
            <a:chOff x="4304520" y="1299600"/>
            <a:chExt cx="4726080" cy="5127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 rot="566400">
              <a:off x="4648320" y="159984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 rot="566400">
              <a:off x="4648320" y="159984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 the Group Rules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life, there are 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ules and value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ed to learn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ame thing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th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 to Other Group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! You’ll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wait your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hare when 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.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are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Ideas to Other Grou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n’t go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your idea,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will? It’s your id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not share it?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oth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to use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, you’ve go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ust don’t scream 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Sensitive to the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’s Ideas and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or her idea, but do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gh at them!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. But not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oy their comp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should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Be Willing to Compromise if Necessary to Accomplish the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o your idea’s no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est. Are you will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ke a compromis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rder to accomplis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59:11Z</dcterms:created>
  <dc:creator>Administrator</dc:creator>
  <dc:description/>
  <dc:language>en-US</dc:language>
  <cp:lastModifiedBy>Administrator</cp:lastModifiedBy>
  <dcterms:modified xsi:type="dcterms:W3CDTF">2009-11-24T19:17:51Z</dcterms:modified>
  <cp:revision>4</cp:revision>
  <dc:subject/>
  <dc:title>Teamwork Skills</dc:title>
</cp:coreProperties>
</file>